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A43-101B-4515-A4C7-AFC5AF87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76B-5EB3-4E7F-BE11-F2E70B28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5BF-44C7-4C4F-8B14-00C91849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1FE-2470-4308-8C03-F3F0C06E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F109-340D-4E3C-8302-6B38AE25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FAFB-2E69-480D-9781-2DD93C18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DB9C-6316-4AD9-8210-20218051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EBF4-7FDC-4A8B-966A-3DE545BD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0209-9C5F-4C3F-95B2-0468B980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D7D0-A361-4292-A976-04F1581C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8A64-80DC-4CC9-AD99-53A487EB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6DD-01FE-4185-B7F5-06B0D3FB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B339-2210-4B87-84F8-9EB27B4D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3D5E-B118-466C-8B79-6E1CCAA4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B062-79FA-4C10-B9BF-CA5F9C85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0133-D087-4E49-A0E9-48D04F01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5C9E-8CDB-4FA2-B5B6-6B57F551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CC1C1-23E7-4C05-8CFA-8161ACA9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654B-35D7-4018-8CDA-013DD911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29F5-DBAA-4DD7-B95A-9AC68B52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4666-4C15-46B1-BFCB-0EF6CD2B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0A2C-2E1E-4CFD-A32B-E9CA6257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FC1-F15E-42EA-BABC-FD82E350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1C42-3A0F-4C25-8B8F-903ADB07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78D1-BC42-4A4F-A51F-17924368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DFA3-3A55-4CB8-8786-F26CE264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3706-85DF-4FAF-A780-68AA9AA3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03FB-E4E0-4265-BA53-2B8D886E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E0F27-3E91-470F-B491-84FFD5BD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55E2-E4BD-4416-A63D-4C3A70E4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53C18-0114-4E41-8DCE-B59DE31A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4125E-C04B-4A0E-8F63-0969A261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01BC-01FC-43A3-B765-B03C8D3A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6DF-4F5C-4DE0-84F5-457C04E0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4528-690D-45C3-BC3D-70803F23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51F6-A00D-401C-8415-432C533D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7C0E-A8B1-4773-9672-2925A102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C13A3-B7B4-4629-BC3A-4123A76B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366A-B3F1-4833-88AD-68C69A6A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B8192-BAD4-44C3-A9BC-346CF70C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6C9EC-483B-4B83-9C89-DB68A2DE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AED31-4B17-43DF-850C-FA6672CA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0922-FD22-4A6C-945C-EE1B8834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C800B-99BE-4942-8A13-1D555096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6DB-B0F9-4D21-8855-0400D57B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0029C-3893-4B4B-A3FE-D800F4F3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EF977-FC3C-4678-9712-2C597BFB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0B517-8843-491E-8677-74181251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91B6C-818E-4E3B-88A1-63862F8A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BB0BE-7CA1-47F8-9295-9F2BDB0F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9B328-FFF7-40AD-9BD6-7D3C34A7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0F799-C2E7-4153-BDDE-94C3014D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D4FC1-D4D8-49A2-ABCF-054CCA46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B8241-DCF8-455F-A454-9249DCAF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44020-52C6-4D54-B6D6-5AF2F0E6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B5C-AEBE-408E-8296-299C6E37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0DF94-B447-45EC-BBB1-4DE314F8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945-F51C-4C8D-82F2-F6FF3E29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F25-6107-40E7-9A81-EC7FF19E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9EB-B6E2-4A68-B940-0C2A7A41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B008-E588-41BD-9D12-AD207373B96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6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8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EB96-F259-427A-A27B-EFE3B3FD449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93BB-4175-4D20-8592-E999EDBCAB5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1849-F4C7-4252-96DD-8F4D462DF9B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8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BC6A-11E7-4989-A913-1159B3126CA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hyperlink" Target="http://rds.yahoo.com/_ylt=A0WTb_251ZtMsE8AsrCJzbkF;_ylu=X3oDMTBpc2ozM2gzBHBvcwM0BHNlYwNzcgR2dGlkAw--/SIG=1eu7ne37s/EXP=1285367609/**http%3A//images.search.yahoo.com/images/view%3Fback=http%253A%252F%252Fimages.search.yahoo.com%252Fsearch%252Fimages%253Fp%253Dsun%2526ei%253Dutf-8%2526fr%253Dslv8-msgr%26w=3576%26h=3480%26imgurl=ellsworthme.org%252FMESEA%252FSarahSun2.gif%26rurl=http%253A%252F%252Fellsworthme.org%252FMESEA%252F%26size=107KB%26name=Sarah%2527s%2BSun%26p=sun%26oid=b26551eb90bc7e9979f568ae2ac4e3c0%26fr2=%26no=4%26tt=31900000%26sigr=10t2q1cun%26sigi=1137opu9b%26sigb=128mhgj6u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rds.yahoo.com/_ylt=A0PDoYCT3JtMxFkAfhGJzbkF;_ylu=X3oDMTBqamdoM3Q5BHBvcwMxMgRzZWMDc3IEdnRpZAM-/SIG=1ktv1g6mj/EXP=1285369363/**http%3A//images.search.yahoo.com/images/view%3Fback=http%253A%252F%252Fimages.search.yahoo.com%252Fsearch%252Fimages%253Fp%253Dtime%252Bpiece%2526ei%253DUTF-8%2526fr%253Dslv8-msgr%2526fr2%253Dtab-web%26w=640%26h=480%26imgurl=www.randomagic.com%252Fmm5%252Fgraphics%252F00000001%252Fmajestic.jpg%26rurl=http%253A%252F%252Fwww.randomagic.com%252Fmm5%252Fmerchant.mvc%253FScreen%253DPROD%2526Store_Code%253D%2526Product_Code%253Dranmaj%2526Category_Code%253DBestSellers%26size=79KB%26name=...%2BRoyal%2BMajest...%26p=time%2Bpiece%26oid=b68be996bc4d5f32941a74a83317fd8f%26fr2=tab-web%26no=12%26tt=5560000%26sigr=13g27c89k%26sigi=11l7evtsn%26sigb=12rfcr1eh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about.com/" TargetMode="External"/><Relationship Id="rId3" Type="http://schemas.openxmlformats.org/officeDocument/2006/relationships/hyperlink" Target="http://www.wiki.answers.com/" TargetMode="External"/><Relationship Id="rId4" Type="http://schemas.openxmlformats.org/officeDocument/2006/relationships/hyperlink" Target="http://www.answers.com/" TargetMode="External"/><Relationship Id="rId5" Type="http://schemas.openxmlformats.org/officeDocument/2006/relationships/hyperlink" Target="http://www.black-inventor.com/Benjamin-Banneker.asp" TargetMode="External"/><Relationship Id="rId6" Type="http://schemas.openxmlformats.org/officeDocument/2006/relationships/hyperlink" Target="http://www.itsaboutclocks.com/" TargetMode="External"/><Relationship Id="rId7" Type="http://schemas.openxmlformats.org/officeDocument/2006/relationships/hyperlink" Target="file:///a74a83317fd8f&amp;fr2=tab-web&amp;no=12&amp;tt=5560000&amp;sigr=13g27c89k&amp;sigi=11l7evtsn&amp;sigb=12rfcr1eh" TargetMode="External"/><Relationship Id="rId8" Type="http://schemas.openxmlformats.org/officeDocument/2006/relationships/hyperlink" Target="file:///a74a83317fd8f&amp;fr2=tab-web&amp;no=12&amp;tt=5560000&amp;sigr=13g27c89k&amp;sigi=11l7evtsn&amp;sigb=12rfcr1eh" TargetMode="External"/><Relationship Id="rId9" Type="http://schemas.openxmlformats.org/officeDocument/2006/relationships/hyperlink" Target="file:///a74a83317fd8f&amp;fr2=tab-web&amp;no=12&amp;tt=5560000&amp;sigr=13g27c89k&amp;sigi=11l7evtsn&amp;sigb=12rfcr1eh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Destiny Tucker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Before clocks were made, time was told by the way the sun moved. The word clock was first used i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the 14</a:t>
            </a:r>
            <a:r>
              <a:rPr b="0" lang="en-US" sz="2600" spc="-1" strike="noStrike" baseline="30000">
                <a:solidFill>
                  <a:srgbClr val="ac66bb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 century, it’s from the Lat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word “clocca” which means bel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5720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83d68"/>
                </a:solidFill>
                <a:latin typeface="Trebuchet MS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ff"/>
                </a:solidFill>
                <a:latin typeface="Trebuchet MS"/>
              </a:rPr>
              <a:t>Early clock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In the early 1750’s, Benjamin Banneker invented the first cloc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He got the idea of making the clock from studying a pocket watch he got from a wealthy associat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After studying the watch, h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made a fully functioned cloc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made out of wooden pie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clock.gif"/>
          <p:cNvPicPr/>
          <p:nvPr/>
        </p:nvPicPr>
        <p:blipFill>
          <a:blip r:embed="rId1"/>
          <a:stretch/>
        </p:blipFill>
        <p:spPr>
          <a:xfrm>
            <a:off x="5410080" y="3581280"/>
            <a:ext cx="1981440" cy="2882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rebuchet MS"/>
              </a:rPr>
              <a:t>Peter Henlein made the time piece, better known as a wrist watch in 1504. But in 1878, Sir Sanford Fleming made it more accurat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rebuchet MS"/>
              </a:rPr>
              <a:t>Christian Huygens made the clock more accurate when he invented the pendulum clock, better known as the “Grandfather Clock”, in 1656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rebuchet MS"/>
              </a:rPr>
              <a:t>The clock that’s used in our every day life is called the quartz clock, It was invented in 1927 by Warren Marriso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304920"/>
            <a:ext cx="7467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de66"/>
                </a:solidFill>
                <a:latin typeface="Trebuchet MS"/>
              </a:rPr>
              <a:t>Changes of clocks over the years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60896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lock.gif"/>
          <p:cNvPicPr/>
          <p:nvPr/>
        </p:nvPicPr>
        <p:blipFill>
          <a:blip r:embed="rId2"/>
          <a:stretch/>
        </p:blipFill>
        <p:spPr>
          <a:xfrm>
            <a:off x="3200400" y="1828800"/>
            <a:ext cx="1380960" cy="2009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05740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4419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Go to fullsize image"/>
          <p:cNvPicPr/>
          <p:nvPr/>
        </p:nvPicPr>
        <p:blipFill>
          <a:blip r:embed="rId7"/>
          <a:stretch/>
        </p:blipFill>
        <p:spPr>
          <a:xfrm>
            <a:off x="5486400" y="2133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3429000" y="3960720"/>
            <a:ext cx="2590920" cy="2568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2"/>
              </a:rPr>
              <a:t>www.about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3"/>
              </a:rPr>
              <a:t>www.Wiki.answers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4"/>
              </a:rPr>
              <a:t>www.answers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5"/>
              </a:rPr>
              <a:t>http://www.black-inventor.com/Benjamin-Banneker.asp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6"/>
              </a:rPr>
              <a:t>www.itsaboutclocks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90c5"/>
                </a:solidFill>
                <a:latin typeface="Trebuchet MS"/>
              </a:rPr>
              <a:t>Pictu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1</a:t>
            </a: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7"/>
              </a:rPr>
              <a:t>a74a83317fd8f&amp;fr2=tab-</a:t>
            </a: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8"/>
              </a:rPr>
              <a:t>web&amp;no</a:t>
            </a: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9"/>
              </a:rPr>
              <a:t>=12&amp;tt=5560000&amp;sigr=13g27c89k&amp;sigi=11l7evtsn&amp;sigb=12rfcr1eh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http://images.search.yahoo.com/search/images?p=pendulum+clock&amp;fr2=tab-web&amp;xargs=0&amp;pstart=1&amp;b=21&amp;ni=20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http://www.theclockgallery.com/usrimage/85786.jpg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http://www.bnl.gov/bera/activities/globe/Banneker_files/clock.gif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7732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8000" spc="-1" strike="noStrike">
                <a:solidFill>
                  <a:srgbClr val="d60093"/>
                </a:solidFill>
                <a:latin typeface="Trebuchet MS"/>
              </a:rPr>
              <a:t>The End!!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38:53Z</dcterms:created>
  <dc:creator>student</dc:creator>
  <dc:description/>
  <dc:language>en-US</dc:language>
  <cp:lastModifiedBy>Taylor</cp:lastModifiedBy>
  <dcterms:modified xsi:type="dcterms:W3CDTF">2010-09-24T00:13:55Z</dcterms:modified>
  <cp:revision>15</cp:revision>
  <dc:subject/>
  <dc:title>The History of Clock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2619749</vt:r8>
  </property>
</Properties>
</file>